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300EE-ED89-445C-97A1-263B38E90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D767D-973A-45DB-A478-EC2760140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3A885-EC88-415B-9B25-84B43C5D8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8615E-E48E-452D-B187-E3B088D5C9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5A47F-571A-4906-AC7E-91670DB01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9F6C5-B6F6-45C2-8AF1-8176B2438B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D720-C0A7-4A08-A5FB-865787225C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7607-A79E-4140-BEF0-3966E0712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8F88D-2914-4F53-99E2-19F3DB5AA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DC9-03D2-4D75-9431-7027948B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203-2971-49A8-8C8C-3FE1FD0D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A2D-2254-4F44-B8D7-ABB436B0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C82-64D2-48F5-9943-AA687E90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116-0D9A-42B1-BAC5-2C7CFE0B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328-7C5A-469C-A105-B836E3B9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0B2-7036-4CB3-A684-C6CC1A50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EF8-2A83-436F-B85E-8776DC9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A3D-09CD-4862-B1DE-B2C6E28A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90D-E13A-49B1-B549-474C58D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60F-6A2D-42BE-882E-5C03FDD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BC9-DC98-47B2-B1E2-989D0D8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99F428-4E13-4DAF-ABCA-F5AAAA4AF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444400" y="1957320"/>
            <a:ext cx="51519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Love The Lord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Your 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819800" y="1476360"/>
            <a:ext cx="637128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271960" y="426960"/>
            <a:ext cx="552096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ve the Lord you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your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2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252160" y="426960"/>
            <a:ext cx="521748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810880" y="274680"/>
            <a:ext cx="4391640" cy="62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lo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prais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prais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serve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serve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trust You,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 will trust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458440" y="1036800"/>
            <a:ext cx="52174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990440" y="1476360"/>
            <a:ext cx="6067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will love You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ith all my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 with all my strength (3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0-03-06T00:22:35Z</dcterms:modified>
  <cp:revision>2</cp:revision>
  <dc:subject/>
  <dc:title>Slide 1</dc:title>
</cp:coreProperties>
</file>